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0BC-D6F5-4696-BF87-B36072CE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745-7B91-427C-9238-99CC7F5A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CE8-00A0-4E7A-A9C1-F3A61B10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347-524D-4D09-A233-5545F406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DFA-D647-4DBF-B8A9-0572E5DA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55E-3C0D-4700-AD6B-0C1D4D6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FAA-127D-4648-A6AA-DE975CA9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0E3-5C2C-4BDE-854B-3516A23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BEF-5D96-40D1-8954-431B4DD7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5FF-1ECB-4168-9C91-BC785EB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9FC-1C0E-44DD-970C-0B809E4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19C-4314-49D3-A72F-B5B0F0C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ABB-E34D-498F-A057-218E1039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ussianflag.jpg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empus Sans ITC"/>
              </a:rPr>
              <a:t>Present Day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Y: Lucia Buzzell, Sacha Ivanov, and Hunter Wein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0099"/>
                </a:solidFill>
                <a:uFillTx/>
                <a:latin typeface="Tempus Sans ITC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Russia is both a democracy and federal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empus Sans ITC"/>
              </a:rPr>
              <a:t>Power is divided between national; and state governments with a president who leads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3886200"/>
            <a:ext cx="22622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54160" y="3886200"/>
            <a:ext cx="148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Tempus Sans ITC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Russia is a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Government no longer sets prices on food or other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Tempus Sans ITC"/>
              </a:rPr>
              <a:t>Higher prices make it harder to buy necessities, like food and clothes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68580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" name="Picture 7" descr="russiancurrency.bmp"/>
          <p:cNvPicPr/>
          <p:nvPr/>
        </p:nvPicPr>
        <p:blipFill>
          <a:blip r:embed="rId1"/>
          <a:stretch/>
        </p:blipFill>
        <p:spPr>
          <a:xfrm>
            <a:off x="4443480" y="4575240"/>
            <a:ext cx="2514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humidcontinenta;.jpg"/>
          <p:cNvPicPr/>
          <p:nvPr/>
        </p:nvPicPr>
        <p:blipFill>
          <a:blip r:embed="rId1"/>
          <a:stretch/>
        </p:blipFill>
        <p:spPr>
          <a:xfrm>
            <a:off x="4724280" y="1371600"/>
            <a:ext cx="40388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teppe.jpg"/>
          <p:cNvPicPr/>
          <p:nvPr/>
        </p:nvPicPr>
        <p:blipFill>
          <a:blip r:embed="rId2"/>
          <a:stretch/>
        </p:blipFill>
        <p:spPr>
          <a:xfrm>
            <a:off x="4724280" y="4068720"/>
            <a:ext cx="401004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subarctoic.jpg"/>
          <p:cNvPicPr/>
          <p:nvPr/>
        </p:nvPicPr>
        <p:blipFill>
          <a:blip r:embed="rId3"/>
          <a:stretch/>
        </p:blipFill>
        <p:spPr>
          <a:xfrm>
            <a:off x="457200" y="4060800"/>
            <a:ext cx="3886200" cy="279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undra.jpg"/>
          <p:cNvPicPr/>
          <p:nvPr/>
        </p:nvPicPr>
        <p:blipFill>
          <a:blip r:embed="rId4"/>
          <a:stretch/>
        </p:blipFill>
        <p:spPr>
          <a:xfrm>
            <a:off x="457200" y="1333440"/>
            <a:ext cx="3962520" cy="2846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empus Sans ITC"/>
              </a:rPr>
              <a:t>Climate Types I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Tundra- </a:t>
            </a:r>
            <a:r>
              <a:rPr b="1" lang="en-US" sz="1800" spc="-1" strike="noStrike">
                <a:solidFill>
                  <a:srgbClr val="ffff00"/>
                </a:solidFill>
                <a:latin typeface="Tempus Sans ITC"/>
              </a:rPr>
              <a:t>vast treeless plain in high latitude climates in which only several of the top inches of ice thaw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Subarctic- 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attern of weather characterized by bitter winters and cool su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empus Sans ITC"/>
              </a:rPr>
              <a:t>Humid Continental- </a:t>
            </a:r>
            <a:r>
              <a:rPr b="1" lang="en-US" sz="1600" spc="-1" strike="noStrike">
                <a:solidFill>
                  <a:srgbClr val="c00000"/>
                </a:solidFill>
                <a:latin typeface="Tempus Sans ITC"/>
              </a:rPr>
              <a:t>pattern of weather characterized by cold long snowy winters and hot short su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empus Sans ITC"/>
              </a:rPr>
              <a:t>Steppe- </a:t>
            </a:r>
            <a:r>
              <a:rPr b="1" lang="en-US" sz="1800" spc="-1" strike="noStrike">
                <a:solidFill>
                  <a:srgbClr val="002060"/>
                </a:solidFill>
                <a:latin typeface="Tempus Sans ITC"/>
              </a:rPr>
              <a:t>dry grassland often found on the edges of a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0" dur="123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1" dur="123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3" dur="123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51" dur="123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52" dur="123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54" dur="123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5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2" dur="123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63" dur="123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65" dur="123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6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3" dur="123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4" dur="123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7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76" dur="123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84" dur="123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5" dur="123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7" dur="123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empus Sans ITC"/>
              </a:rPr>
              <a:t>Med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Life expectancy has 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Rising number in both cancer and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ollution causes harm to Russian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nhaler.jpg"/>
          <p:cNvPicPr/>
          <p:nvPr/>
        </p:nvPicPr>
        <p:blipFill>
          <a:blip r:embed="rId1"/>
          <a:stretch/>
        </p:blipFill>
        <p:spPr>
          <a:xfrm rot="727200">
            <a:off x="6019920" y="4038480"/>
            <a:ext cx="197172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mokestack.jpg"/>
          <p:cNvPicPr/>
          <p:nvPr/>
        </p:nvPicPr>
        <p:blipFill>
          <a:blip r:embed="rId2"/>
          <a:stretch/>
        </p:blipFill>
        <p:spPr>
          <a:xfrm rot="21121200">
            <a:off x="1066320" y="4191120"/>
            <a:ext cx="28195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5210280"/>
            <a:ext cx="1752480" cy="164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5486400"/>
            <a:ext cx="1533240" cy="950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mpus Sans ITC"/>
              </a:rPr>
              <a:t>Da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Russians enjoy, hiking, camping, and mountain clim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They love soccer and t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empus Sans ITC"/>
              </a:rPr>
              <a:t>Also enjoy skiing, skating, and playing ice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occer ball.jpg"/>
          <p:cNvPicPr/>
          <p:nvPr/>
        </p:nvPicPr>
        <p:blipFill>
          <a:blip r:embed="rId3"/>
          <a:stretch/>
        </p:blipFill>
        <p:spPr>
          <a:xfrm>
            <a:off x="533520" y="4724280"/>
            <a:ext cx="1838160" cy="1838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67240" y="391176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empus Sans IT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90% of population speaks Russ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High amount of ethnic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In rural areas most people live in woo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Suburbs are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empus Sans ITC"/>
              </a:rPr>
              <a:t>75% of people live in c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5054760"/>
            <a:ext cx="22096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4:54:35Z</dcterms:created>
  <dc:creator> </dc:creator>
  <dc:description/>
  <dc:language>en-US</dc:language>
  <cp:lastModifiedBy> </cp:lastModifiedBy>
  <dcterms:modified xsi:type="dcterms:W3CDTF">2010-12-20T15:05:39Z</dcterms:modified>
  <cp:revision>9</cp:revision>
  <dc:subject/>
  <dc:title>Present Day Russia</dc:title>
</cp:coreProperties>
</file>